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DCC-4A0D-48CE-BEFF-CE2C782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B24-EE97-49C0-890C-B231C00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2D4-B20C-480F-BE32-461B2EFD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94F-BAC9-4D6A-B604-FF30ACD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78E3-2E0E-4683-B1F8-1BDE1602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39F-8604-4F43-A4EF-039CDF50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338A-526E-41DC-B015-82EA893B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5815-A310-450E-870B-2749E5F4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FCB2-FEF3-45D9-A503-2FDEA42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DBE9-B0E3-48EC-8B16-F7383F9B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E221-5B26-409A-B96E-D8C446C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D77-3249-4F22-8521-0708D7D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3A9-F395-4AD5-B886-465D30D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842-EA2E-47EC-A835-4501278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302-FC6E-4471-8B75-F11A0884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EB07-7AEB-4D3B-82B8-467FF718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67BE-16B9-497F-86C6-C1039944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5157-9D76-4801-87A3-23ECCCFD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F8CC-05D8-42C6-AD63-1738635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33AA-3BF8-4CB4-BA90-E57AAFA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8AC6-889E-4820-9D9C-42EA3E1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0A0B-9A8A-4C94-AA82-49396284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DC3-6454-44A1-8437-A364EC2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F31C-1A9A-44FD-8887-C48D517E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4025-DA6E-41C1-8DAD-357FAA7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D23F-8055-4819-B5D3-6236347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CBC4-2503-4A03-AEBA-E4B77B0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CBBB-DE22-45C4-8150-82921011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735A-3722-4FAF-9A57-F07A88B6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E38C-FF92-45B7-982C-3B471FBB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90CC-30BA-486E-ADA3-3476FB2C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7E20-AD42-413E-9CDD-BF359A1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4D03-61A7-464B-88CE-5C6D281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915-0C1D-4D35-A5AD-15DFD4A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DAB0-08A0-4167-BE2C-7A80D202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CE16-3AD4-4719-8386-DB49F23F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D910-96A3-4394-9769-2B169B8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2551-978C-4772-91AB-1F97523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C3CF-05E8-4FF7-95F7-DC88AE6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C61B-2DBB-4072-98E8-0B70C69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BB47-E82A-4467-B451-271E86C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6898-B4CF-4E18-85DA-8494A4CE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A827-156D-498E-92B3-ECB4AC5A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915-ED01-4A44-B3DD-54E8D27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989-D490-4222-BDD2-E629FF6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A0A-3382-4FE9-A52D-372E748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22B-0C6B-46CC-8729-5D632D2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8F8-4B65-4802-A00F-6494B0B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E7C5-8545-4B75-BFBE-AAAA48559C6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29CD-F0ED-4724-B9E1-BBF72F9146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3F8-3A25-4056-9346-04D378EC81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2AF-AB7D-4902-95E5-BDB91B51AD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184320" y="214200"/>
            <a:ext cx="36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002060"/>
                </a:solidFill>
                <a:latin typeface="Constantia"/>
              </a:rPr>
              <a:t>Berl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57880" y="713880"/>
            <a:ext cx="32860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5edfd"/>
                </a:solidFill>
                <a:latin typeface="Constantia"/>
              </a:rPr>
              <a:t>In der Mitte der Stadt steht das höchste Gebäude Berlins, der drittgrößte und einzige </a:t>
            </a:r>
            <a:r>
              <a:rPr b="0" i="1" lang="de-DE" sz="3600" spc="-1" strike="noStrike">
                <a:solidFill>
                  <a:srgbClr val="b5edfd"/>
                </a:solidFill>
                <a:latin typeface="Constantia"/>
              </a:rPr>
              <a:t>Fernsehturm </a:t>
            </a:r>
            <a:r>
              <a:rPr b="0" lang="de-DE" sz="3600" spc="-1" strike="noStrike">
                <a:solidFill>
                  <a:srgbClr val="b5edfd"/>
                </a:solidFill>
                <a:latin typeface="Constantia"/>
              </a:rPr>
              <a:t>Europa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4643640" cy="619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714640" y="713880"/>
            <a:ext cx="31431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Constantia"/>
              </a:rPr>
              <a:t>In Berlin können sie die schönen Barockbauten aus dem 18. und dem 19.Jahrhundert bewundern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5202000" cy="5784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4260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Franklin Gothic Book"/>
              </a:rPr>
              <a:t>Hier kann man die Nikolai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de-DE" sz="3600" spc="-1" strike="noStrike">
                <a:solidFill>
                  <a:srgbClr val="ffffff"/>
                </a:solidFill>
                <a:latin typeface="Franklin Gothic Book"/>
              </a:rPr>
              <a:t>Kirche besichtige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5572080" cy="403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4429080" y="3214800"/>
            <a:ext cx="4432320" cy="3282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00360" y="0"/>
            <a:ext cx="450036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Die Weltzeituhr, die die Zeit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in verschiedenen Großstädten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der Welt zeigt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072040" y="2143080"/>
            <a:ext cx="33940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371484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3" name="Прямоугольник 5"/>
          <p:cNvSpPr/>
          <p:nvPr/>
        </p:nvSpPr>
        <p:spPr>
          <a:xfrm>
            <a:off x="214200" y="5500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Franklin Gothic Book"/>
              </a:rPr>
              <a:t>Das 39 Stockwe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Franklin Gothic Book"/>
              </a:rPr>
              <a:t>hohe Forum-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14200" y="3000240"/>
            <a:ext cx="4714920" cy="353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Прямоугольник 4"/>
          <p:cNvSpPr/>
          <p:nvPr/>
        </p:nvSpPr>
        <p:spPr>
          <a:xfrm>
            <a:off x="271800" y="214308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030a0"/>
                </a:solidFill>
                <a:latin typeface="Franklin Gothic Book"/>
              </a:rPr>
              <a:t>Der Berliner 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143240" y="142920"/>
            <a:ext cx="4786560" cy="3589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Прямоугольник 6"/>
          <p:cNvSpPr/>
          <p:nvPr/>
        </p:nvSpPr>
        <p:spPr>
          <a:xfrm>
            <a:off x="5000760" y="400068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030a0"/>
                </a:solidFill>
                <a:latin typeface="Franklin Gothic Book"/>
              </a:rPr>
              <a:t>Das Rote Rath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42960" y="316080"/>
            <a:ext cx="3786120" cy="6224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9" name="TextBox 4"/>
          <p:cNvSpPr/>
          <p:nvPr/>
        </p:nvSpPr>
        <p:spPr>
          <a:xfrm>
            <a:off x="4572000" y="571680"/>
            <a:ext cx="414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Man verbindet  den Namen der 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mit dem Wort „Bär“. Auf dem Wap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Berlins sehen wir einen Bären mit der Kr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bf5f9"/>
                </a:solidFill>
                <a:latin typeface="Constantia"/>
              </a:rPr>
              <a:t>Berlin ist die Hauptstadt des wiedervereinigten Deutschland. Hier leben rund 3,5 Millionen Einwohn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8121600" cy="498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Die Spreemetropole (so wird diese Großstadt oft genannt, weil sie an der Spree liegt) ist bald 760 Jahre alt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242120" cy="507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2840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Constantia"/>
              </a:rPr>
              <a:t>Berlin erfreut die Besucher durch zahlreiche historische Bauten und moderne Bauensemble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84840" cy="462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260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d0d0d"/>
                </a:solidFill>
                <a:latin typeface="Constantia"/>
              </a:rPr>
              <a:t>In Berlin gibt es viel zu sehen. Die Stadt ist an Sehenswürdigkeiten reic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714384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713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72428"/>
                </a:solidFill>
                <a:latin typeface="Constantia"/>
              </a:rPr>
              <a:t>Das alte Wahrzeichen Berlins ist das Brandenburger Tor. Es ist jetzt zum Symbol der Einheit geworden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5994360" cy="449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7132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Constantia"/>
              </a:rPr>
              <a:t>Die berühmteste Straße Berlins ist die Straße Unter den Linden. Sie hat mehrere Epochen überlebt. Die Straße blühte auf und ging nieder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3:27:33Z</dcterms:created>
  <dc:creator>Катерина</dc:creator>
  <dc:description/>
  <dc:language>en-US</dc:language>
  <cp:lastModifiedBy>Катерина</cp:lastModifiedBy>
  <dcterms:modified xsi:type="dcterms:W3CDTF">2012-05-17T15:28:22Z</dcterms:modified>
  <cp:revision>13</cp:revision>
  <dc:subject/>
  <dc:title>Слайд 1</dc:title>
</cp:coreProperties>
</file>